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1.png" ContentType="image/png"/>
  <Override PartName="/ppt/media/image6.png" ContentType="image/png"/>
  <Override PartName="/ppt/media/image36.jpeg" ContentType="image/jpeg"/>
  <Override PartName="/ppt/media/image38.jpeg" ContentType="image/jpeg"/>
  <Override PartName="/ppt/media/image44.jpeg" ContentType="image/jpeg"/>
  <Override PartName="/ppt/media/image41.png" ContentType="image/png"/>
  <Override PartName="/ppt/media/image42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685440" y="1143000"/>
            <a:ext cx="5483160" cy="30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316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79B265-3ACD-4611-9745-35A98296C8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B49486-7A76-449E-B96E-6208B09272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19043E-C465-446D-9A14-79DCE31A15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C7D219-B1D1-4ABC-BA7B-2910D5FA0B5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4333E8-5B0C-40F8-B733-090F5E5479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9FFB3D-81DC-4CDE-B6A6-EAEDB3D349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AC89C0-C28C-43F4-BC52-65AA7BEA3C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11C9DE-D7E9-42B4-8DD0-1C72FBAD99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E4A0F8-D573-415B-A42D-B4D6EB62B7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DD1E02-B7B5-4EDC-A47D-200E547F674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082643-D8F0-4F1A-91AA-40B23F2712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9F3C30-9E77-46DC-BBA7-CA24D3EFE7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FD76EB-57DC-47F4-90AF-1A50A553E38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EFD0F-3684-4FC3-BA93-91968CF859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510431-6E76-4DFB-BA02-2C8BFA7510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909D4F-BA2E-4D28-A511-98D12F4D54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47BC69-2E9B-4C1D-A576-EA4C307F372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24665D-38BA-44FB-BDEB-2DDCDB2418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D8C8B5-8A2E-4593-9F3F-47CCD59ED1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0E3587-1957-473C-B94D-5CDFAE96A1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585F6D-4219-441C-B3BA-EE77D6C0D5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14BBFC-CDB0-4D0C-A2F4-652BA7222A2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066E75-EDB2-4691-9103-BD7559A84C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1F486A-3C82-41B5-B149-FB625C9879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9C1959-7A6E-4EED-8DF8-ED18955899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1720" cy="30844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DAA2F6-A798-4E4A-AABA-2C748428B1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DB287F-58FC-4886-94AD-9DBE87AF9F8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7EEE31-7E94-4B18-A714-72F0BA9135D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6A9F6-4555-4776-9D42-71038626B5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03C4D-466F-4F80-A785-B1B47B3993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61903C-2FF1-486F-B745-5E13959EB1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62D1F5-3272-42E4-9FBF-C06147E06D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703777-7EA0-45D4-B835-0162C41EDA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434207-DED2-4BE3-B17A-A950844182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C10E42-CFD2-4BF6-91F9-E648B6B0FF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CE383E-3726-47A5-8AE6-2EF7D2311D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932E88-2FF2-40C5-8B78-30741395FE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D0E29A-BF97-4BD8-8A6E-E22C33F04D8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53536B-6988-4C8A-899A-AC72697F3AB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A196EC-9158-433A-818F-70DA1C2ACB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D295-16BB-4DBE-891C-520EF7CD3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D416-CF63-4256-B3E4-7099BEBF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9AF3-8420-4E2B-B9D5-B322EA4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C86C-8C0A-49A5-BFF6-A3F6FAAB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3B443-A5C9-43A8-B101-ABEE3740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D341-1268-48B5-AA47-00B09A1E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3556-F994-4BAD-9845-7DEB7BC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4EA9A-C22E-40B5-A1FF-6A88F54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4080-9BED-4944-AD78-BFCAFD62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983D6-AD5F-4565-9402-518C01E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4785D-B5B1-4CDC-B40C-21330A44D2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28D7-1823-4A79-B2FB-C80E95B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38A3-F6FE-4159-B81B-D8FBE76FB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E9E3C-7FA8-442D-807C-02BD2EB71E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999D5-6EAB-4FD9-96A4-5C7F60CD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DF90B-676D-4918-867F-17D8D0EE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38F7F-43EE-436F-A34D-2D52724A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29DBB-91A9-4157-AD59-B7878F84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9777F-684D-4510-B38A-74CFE59A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8BE55-CACB-4153-8DA3-88AE5D43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A245-D957-438D-BC3D-396E01EF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F6A5B-8EB2-4A4B-92DF-A1E6D1BB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EF5EA-DEED-4C08-8082-E6DBFE69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CA6D0-D322-4B56-9839-6A0E4C12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0452D-A66D-4C7D-9EE0-3CA00D2D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21D03-E435-4632-BCF3-376AD31F3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2276-B9A9-4386-8D48-72612FBB27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6F7-C202-4865-A708-A0A1D091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A8A0-1E46-4FAB-A967-6DE0937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6565-AC8D-4EC1-BA35-97A202AF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1FE8-B550-47D7-9C41-2CDB42D2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C812-7C34-420D-B3A6-E913C881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7A25-09AA-47CB-BDF4-BD4C9119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86AB-3A2D-4A9D-A52C-A651AEE2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3569-69C0-416D-912C-206E4B11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0407-D9C5-4215-BE24-8054DA3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767-5240-432A-A0E4-A3A5BC77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F76-B22A-4CEE-BF87-1402AE77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6808-6888-49B1-91CE-97BAEC0562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84567-E3C8-412C-93AA-E3DC9FA6A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CED10-D517-4FAF-8DC3-5C8F39F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2DD29-366B-4B43-AFF4-5B136FFA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1859-5977-40C9-80A0-855DF37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D8132-2A77-4143-A2C8-FDB231EE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14774-8FE1-4A6C-A1E6-48C779DE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EF7AA-69C8-4E18-A075-8936118B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C37DB-5B35-4DA7-AC21-CFC6CB5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67E7A-7A4D-40CE-B77A-9B6D974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F0F5A-FB6C-42B1-B62E-74A7BB1E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DCCCD-969E-4FF7-AE06-77B68BA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27A13-D2A1-4714-859C-1A5025C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2158D-8640-4F43-AD24-5DE29171B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BBA94B-AB62-43D2-AB72-EA247ADCD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A65D-3F5F-43E7-9CAA-9A2A2A18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1E782-8476-4693-BFC4-BC52E85A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510422-AC48-440E-8747-27825FC7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20BBBE-8F4D-4748-8605-089B375C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14044-376D-4817-B9AE-70852663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CFD28-F343-41E3-99C8-A531FA1E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1CB93-6D0B-4C8A-8490-BA2869B7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06D9A-543E-4BD9-9BCC-893DA02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58884-0C65-4D19-93E0-A22A9EC4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E55BE-EA81-4031-B530-85686BF8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069C1-FDE3-4A7E-A3E1-65619C68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4315-0FDE-46F0-98F5-4A98C692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D40591-640B-40B4-9A78-942525AD3F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7C99-6FCC-4EDB-9B1F-550D977A2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CFAB-F92A-4267-82DA-4937DE93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4C54-FFBD-4CF0-A257-8E8CFA60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4A6A-1BFF-4AE3-BA6A-6F868744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CFEF-D415-4050-9726-ED7DE484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33737-D044-49CA-9AA0-84F24D1A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E520-5AE3-4A3A-94A7-21D710B8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195C-0FC3-4045-B2F1-8252B26B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84F1-1CF7-4AF7-AF41-D0AC8FAC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95A8-0269-478D-AA76-E64DE170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C48A-D790-44B7-A77A-40EB7C95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7438-6322-469D-831A-77E607C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2F76-F2FE-429A-A2FD-46F98AB59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4B867-2151-43AB-B00E-79197BB223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EE07D-EB86-466B-89B5-3B73BC20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D83DA-7C2D-425B-B22E-F0723F9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80E0B-5180-47FC-9C8C-AA751216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1F71B-207A-4AAD-9319-247F0F4B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D7555-0842-4BA1-B311-17341631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C039B-E844-4B94-96BB-E24EF8C3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FA05-6894-4C3F-8AF8-5CC43A2D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847EF-D2CF-490C-A4E2-62C71181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B523D-C7D8-4F2F-9E32-41DF3E8A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930D6-3EC8-4D35-A525-C6B4F10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DEF59-E325-4392-AA78-926DF50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F2229-6D86-4A80-9507-8289D2277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B72F5-B1B4-4C68-A072-12EBF3684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3BF785-A852-441B-8166-B01C9708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93F0F-B852-4387-ACE7-66949E02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69ED8-CC20-4C25-9AC4-AC8C6C44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FD7111-99DA-4A64-9CB5-770CB6E4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5491-8C95-4ACC-A9E5-77218B12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8E3CA3-A95A-4244-B0F2-2B788E54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A8DD5A-F3D1-4DB1-B1F8-FC6C7A25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DFFD62-0D06-442C-AB68-7A0A6827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FEF5BF-A3D5-4690-B643-701EAFE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E3A395-CA6C-431D-A0E3-F2586071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48C98-CF02-4C91-BFD2-8B7A77FE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9E30D-DB4A-46D2-BF30-E8D172C460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AECE0-7222-4324-A354-8416E9771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CAB6B-623F-4F6C-A55B-50DB3C67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9CA09-9B9D-42E5-9CC9-661A648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EF76FD-3945-4906-918C-8686DBFC3AE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3998880"/>
            <a:ext cx="8640720" cy="20520"/>
            <a:chOff x="506520" y="3998880"/>
            <a:chExt cx="8640720" cy="205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998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1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F9E03E-BE54-405D-A962-4DFCA5D6EA71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57240"/>
            <a:ext cx="2895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D6CD7B-C0CE-4E41-A540-DE799F5B5EE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2571840"/>
            <a:ext cx="8640720" cy="21960"/>
            <a:chOff x="506520" y="2571840"/>
            <a:chExt cx="8640720" cy="2196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2571840"/>
              <a:ext cx="864072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613FCA-4A8D-440B-9180-8F93913C574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4505400"/>
            <a:ext cx="8640720" cy="20520"/>
            <a:chOff x="506520" y="4505400"/>
            <a:chExt cx="8640720" cy="2052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5054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4514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4857480"/>
            <a:ext cx="7588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E8D831-A99D-4603-8F5C-9A72B7554F5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7A897F-47CD-495C-B1A2-D95030749C4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4376880"/>
            <a:ext cx="8640720" cy="20520"/>
            <a:chOff x="506520" y="4376880"/>
            <a:chExt cx="8640720" cy="205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376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438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3244CE-C089-4C16-A441-13A4584DBBD3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0CCAC7-0B0B-4F82-B32B-281046796E8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8C4B91-086B-4330-B9F2-DD551700E94E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2"/>
          <a:stretch/>
        </p:blipFill>
        <p:spPr>
          <a:xfrm>
            <a:off x="438120" y="1554120"/>
            <a:ext cx="7950240" cy="1433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"/>
          <p:cNvSpPr/>
          <p:nvPr/>
        </p:nvSpPr>
        <p:spPr>
          <a:xfrm>
            <a:off x="1911240" y="3525840"/>
            <a:ext cx="5648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2"/>
          <p:cNvSpPr/>
          <p:nvPr/>
        </p:nvSpPr>
        <p:spPr>
          <a:xfrm>
            <a:off x="0" y="0"/>
            <a:ext cx="4211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95280" y="1779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Вредные привычки </a:t>
            </a: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причина заболеваний центральной нервной системы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4211640" y="0"/>
            <a:ext cx="514332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3"/>
          <a:stretch/>
        </p:blipFill>
        <p:spPr>
          <a:xfrm>
            <a:off x="-14400" y="-839880"/>
            <a:ext cx="9158400" cy="610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3"/>
          <a:stretch/>
        </p:blipFill>
        <p:spPr>
          <a:xfrm>
            <a:off x="-36360" y="-358920"/>
            <a:ext cx="9180360" cy="553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2"/>
          <p:cNvSpPr/>
          <p:nvPr/>
        </p:nvSpPr>
        <p:spPr>
          <a:xfrm>
            <a:off x="468360" y="1492200"/>
            <a:ext cx="3887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 действие никотина на центральную нервную систему выражается вначале в её возбуждении, а затем в угнетении. 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676760" y="4280040"/>
            <a:ext cx="40845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Segoe UI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3"/>
          <a:stretch/>
        </p:blipFill>
        <p:spPr>
          <a:xfrm>
            <a:off x="4676760" y="195120"/>
            <a:ext cx="4084560" cy="408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3"/>
          <a:stretch/>
        </p:blipFill>
        <p:spPr>
          <a:xfrm>
            <a:off x="4000680" y="-144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-66600" y="-11160"/>
            <a:ext cx="4067280" cy="5143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39640" y="1276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egoe UI"/>
                <a:ea typeface="Times New Roman"/>
              </a:rPr>
              <a:t>Курящие люди становятся раздражительными и легковозбудимыми, у них наруша­ется сон, аппетит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-181080" y="-25560"/>
            <a:ext cx="10542600" cy="527220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181080" y="771480"/>
            <a:ext cx="5545080" cy="280836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95280" y="1203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едко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никают расстройства памяти, головные боли, бессонница, дрожание рук, снижается работоспособность, ухудшается настроение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4572000" y="1119240"/>
            <a:ext cx="3975120" cy="40323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4"/>
          <a:stretch/>
        </p:blipFill>
        <p:spPr>
          <a:xfrm>
            <a:off x="1173240" y="2643120"/>
            <a:ext cx="2555640" cy="194940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4"/>
          <p:cNvGrpSpPr/>
          <p:nvPr/>
        </p:nvGrpSpPr>
        <p:grpSpPr>
          <a:xfrm>
            <a:off x="1303200" y="1119240"/>
            <a:ext cx="4849920" cy="1344600"/>
            <a:chOff x="1303200" y="1119240"/>
            <a:chExt cx="4849920" cy="1344600"/>
          </a:xfrm>
        </p:grpSpPr>
        <p:pic>
          <p:nvPicPr>
            <p:cNvPr id="475" name="Picture 5" descr=""/>
            <p:cNvPicPr/>
            <p:nvPr/>
          </p:nvPicPr>
          <p:blipFill>
            <a:blip r:embed="rId5"/>
            <a:stretch/>
          </p:blipFill>
          <p:spPr>
            <a:xfrm>
              <a:off x="1303200" y="1119240"/>
              <a:ext cx="196236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6"/>
            <p:cNvSpPr/>
            <p:nvPr/>
          </p:nvSpPr>
          <p:spPr>
            <a:xfrm>
              <a:off x="3132000" y="1724040"/>
              <a:ext cx="30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этанол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 flipH="1">
              <a:off x="2414520" y="2160720"/>
              <a:ext cx="1005120" cy="10296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2"/>
          <p:cNvSpPr/>
          <p:nvPr/>
        </p:nvSpPr>
        <p:spPr>
          <a:xfrm>
            <a:off x="2600280" y="771480"/>
            <a:ext cx="39434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Утрачивается разумный контроль над поступками, снижается критическое отношение к себе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Механизм воздействия алкоголя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4427640" y="225756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2673360" y="3076560"/>
            <a:ext cx="39416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"/>
                <a:ea typeface="Segoe UI"/>
              </a:rPr>
              <a:t>Угнетение тормозных процессов в коре головного мозга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3"/>
          <a:stretch/>
        </p:blipFill>
        <p:spPr>
          <a:xfrm>
            <a:off x="1440" y="-812880"/>
            <a:ext cx="9142560" cy="608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3"/>
          <a:stretch/>
        </p:blipFill>
        <p:spPr>
          <a:xfrm>
            <a:off x="-20520" y="-523800"/>
            <a:ext cx="9180360" cy="612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1692360" y="385920"/>
            <a:ext cx="1820880" cy="437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tretch/>
        </p:blipFill>
        <p:spPr>
          <a:xfrm>
            <a:off x="4356000" y="771480"/>
            <a:ext cx="362736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3"/>
          <a:stretch/>
        </p:blipFill>
        <p:spPr>
          <a:xfrm>
            <a:off x="0" y="-6681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2820960" y="1241280"/>
            <a:ext cx="3311640" cy="356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4"/>
          <a:stretch/>
        </p:blipFill>
        <p:spPr>
          <a:xfrm>
            <a:off x="3397320" y="268200"/>
            <a:ext cx="2482920" cy="194796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4"/>
          <p:cNvGrpSpPr/>
          <p:nvPr/>
        </p:nvGrpSpPr>
        <p:grpSpPr>
          <a:xfrm>
            <a:off x="5052600" y="538200"/>
            <a:ext cx="3890880" cy="1166760"/>
            <a:chOff x="5052600" y="538200"/>
            <a:chExt cx="3890880" cy="1166760"/>
          </a:xfrm>
        </p:grpSpPr>
        <p:sp>
          <p:nvSpPr>
            <p:cNvPr id="495" name="Text Box 5"/>
            <p:cNvSpPr/>
            <p:nvPr/>
          </p:nvSpPr>
          <p:spPr>
            <a:xfrm>
              <a:off x="5919840" y="5382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итательные веществ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 flipH="1">
              <a:off x="5052600" y="1012680"/>
              <a:ext cx="2151720" cy="69228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97" name="Group 7"/>
          <p:cNvGrpSpPr/>
          <p:nvPr/>
        </p:nvGrpSpPr>
        <p:grpSpPr>
          <a:xfrm>
            <a:off x="1138320" y="914400"/>
            <a:ext cx="3020760" cy="381960"/>
            <a:chOff x="1138320" y="914400"/>
            <a:chExt cx="3020760" cy="381960"/>
          </a:xfrm>
        </p:grpSpPr>
        <p:sp>
          <p:nvSpPr>
            <p:cNvPr id="498" name="Text Box 8"/>
            <p:cNvSpPr/>
            <p:nvPr/>
          </p:nvSpPr>
          <p:spPr>
            <a:xfrm>
              <a:off x="1138320" y="91440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кислород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1676520" y="1204560"/>
              <a:ext cx="2130480" cy="9180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1187280" y="836640"/>
            <a:ext cx="2835360" cy="3940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4"/>
          <a:stretch/>
        </p:blipFill>
        <p:spPr>
          <a:xfrm>
            <a:off x="4859280" y="773280"/>
            <a:ext cx="292572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Инсульт может привести к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2627280" y="2139840"/>
            <a:ext cx="4572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оме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араличам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ям интеллекта или памяти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мерти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452520" y="1131840"/>
            <a:ext cx="38163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е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ового кровообращения или гибель нервных клеток из-за сдавливания может произойти в результате заболеваний, связанных с </a:t>
            </a: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опухолями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3"/>
          <a:stretch/>
        </p:blipFill>
        <p:spPr>
          <a:xfrm>
            <a:off x="4721400" y="0"/>
            <a:ext cx="4422600" cy="59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Опухоль головного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едполагаемые причины возникновения опухолей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2627280" y="2139840"/>
            <a:ext cx="457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винилхлорид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аспартам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действие электромагнитных поле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144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0" y="-380880"/>
            <a:ext cx="9180360" cy="61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3"/>
          <a:stretch/>
        </p:blipFill>
        <p:spPr>
          <a:xfrm>
            <a:off x="-36360" y="-853920"/>
            <a:ext cx="9180360" cy="61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1"/>
          <a:stretch/>
        </p:blipFill>
        <p:spPr>
          <a:xfrm>
            <a:off x="1353960" y="14112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3"/>
          <a:stretch/>
        </p:blipFill>
        <p:spPr>
          <a:xfrm>
            <a:off x="-25560" y="-36360"/>
            <a:ext cx="9169560" cy="60973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539640" y="555480"/>
            <a:ext cx="4572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Лёгкое сотрясение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головного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а может проявляться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сонливостью, вялостью и тошното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2"/>
          <p:cNvSpPr/>
          <p:nvPr/>
        </p:nvSpPr>
        <p:spPr>
          <a:xfrm>
            <a:off x="2709720" y="195120"/>
            <a:ext cx="4281480" cy="105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знаки сотрясения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709720" y="1419120"/>
            <a:ext cx="457200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отеря сознания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вота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етроградная амнезия </a:t>
            </a:r>
            <a:r>
              <a:rPr b="0" i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(когда человек не может вспомнить события, предшествующие травме)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2"/>
          <p:cNvSpPr/>
          <p:nvPr/>
        </p:nvSpPr>
        <p:spPr>
          <a:xfrm>
            <a:off x="395280" y="771480"/>
            <a:ext cx="352908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 сотрясении головного мозга или его ушибе в первую очередь необходимо: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уложить на кровать или кушетку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ложить на лоб тряпочку, смоченную холодной водой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медленно доставить пострадавшего в больницу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3"/>
          <a:stretch/>
        </p:blipFill>
        <p:spPr>
          <a:xfrm>
            <a:off x="4211640" y="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3"/>
          <a:stretch/>
        </p:blipFill>
        <p:spPr>
          <a:xfrm>
            <a:off x="1763640" y="771480"/>
            <a:ext cx="5045040" cy="4089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0" y="0"/>
            <a:ext cx="91616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Ушиб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"/>
          <p:cNvSpPr/>
          <p:nvPr/>
        </p:nvSpPr>
        <p:spPr>
          <a:xfrm>
            <a:off x="431640" y="163512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вная система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это одна из самых важных систем организма, которая отвечает за действие и координацию всех систем и органов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3"/>
          <a:stretch/>
        </p:blipFill>
        <p:spPr>
          <a:xfrm>
            <a:off x="5003640" y="184320"/>
            <a:ext cx="322920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0" y="-1652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-7920" y="-401760"/>
            <a:ext cx="9151920" cy="610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"/>
          <p:cNvPicPr/>
          <p:nvPr/>
        </p:nvPicPr>
        <p:blipFill>
          <a:blip r:embed="rId3"/>
          <a:stretch/>
        </p:blipFill>
        <p:spPr>
          <a:xfrm>
            <a:off x="0" y="-45252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-324000" y="123840"/>
            <a:ext cx="5904000" cy="2376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900000" y="411120"/>
            <a:ext cx="4572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офилактика заболеваний нервной системы должна занимать не последнее место в жизни каждого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2"/>
          <p:cNvSpPr/>
          <p:nvPr/>
        </p:nvSpPr>
        <p:spPr>
          <a:xfrm>
            <a:off x="2625840" y="361800"/>
            <a:ext cx="42796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офилактика заболевани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611440" y="1527120"/>
            <a:ext cx="45720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равильное питание и здоровый образ жизни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отказ от вредных привычек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использование необходимых средств защиты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воевременное лечение на ранних стадиях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2"/>
          <p:cNvGrpSpPr/>
          <p:nvPr/>
        </p:nvGrpSpPr>
        <p:grpSpPr>
          <a:xfrm>
            <a:off x="573120" y="1893960"/>
            <a:ext cx="3182760" cy="1828800"/>
            <a:chOff x="573120" y="1893960"/>
            <a:chExt cx="3182760" cy="1828800"/>
          </a:xfrm>
        </p:grpSpPr>
        <p:sp>
          <p:nvSpPr>
            <p:cNvPr id="416" name="Line 3"/>
            <p:cNvSpPr/>
            <p:nvPr/>
          </p:nvSpPr>
          <p:spPr>
            <a:xfrm flipH="1">
              <a:off x="2303280" y="1893960"/>
              <a:ext cx="1292040" cy="9763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17" name="AutoShape 4"/>
            <p:cNvSpPr/>
            <p:nvPr/>
          </p:nvSpPr>
          <p:spPr>
            <a:xfrm>
              <a:off x="573120" y="2863800"/>
              <a:ext cx="318276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ождённые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18" name="Group 5"/>
          <p:cNvGrpSpPr/>
          <p:nvPr/>
        </p:nvGrpSpPr>
        <p:grpSpPr>
          <a:xfrm>
            <a:off x="5432400" y="1792440"/>
            <a:ext cx="3005280" cy="1871640"/>
            <a:chOff x="5432400" y="1792440"/>
            <a:chExt cx="3005280" cy="1871640"/>
          </a:xfrm>
        </p:grpSpPr>
        <p:sp>
          <p:nvSpPr>
            <p:cNvPr id="419" name="AutoShape 6"/>
            <p:cNvSpPr/>
            <p:nvPr/>
          </p:nvSpPr>
          <p:spPr>
            <a:xfrm>
              <a:off x="5432400" y="2803680"/>
              <a:ext cx="3005280" cy="86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риобретённые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20" name="Line 7"/>
            <p:cNvSpPr/>
            <p:nvPr/>
          </p:nvSpPr>
          <p:spPr>
            <a:xfrm>
              <a:off x="5560920" y="1792440"/>
              <a:ext cx="1292400" cy="10047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21" name="AutoShape 8"/>
          <p:cNvSpPr/>
          <p:nvPr/>
        </p:nvSpPr>
        <p:spPr>
          <a:xfrm>
            <a:off x="2763720" y="1338120"/>
            <a:ext cx="35290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оражение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539640" y="339840"/>
            <a:ext cx="3240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4" name="Rectangle 3"/>
          <p:cNvSpPr/>
          <p:nvPr/>
        </p:nvSpPr>
        <p:spPr>
          <a:xfrm>
            <a:off x="687240" y="3286080"/>
            <a:ext cx="763272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5c8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4"/>
          <a:stretch/>
        </p:blipFill>
        <p:spPr>
          <a:xfrm>
            <a:off x="684360" y="3292560"/>
            <a:ext cx="1557360" cy="15573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2409840" y="3413160"/>
            <a:ext cx="57405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Гидроцефалия </a:t>
            </a:r>
            <a:r>
              <a:rPr b="0" lang="ru-RU" sz="1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–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Segoe UI"/>
              </a:rPr>
              <a:t>увеличение объёма мозга из-за нарушения оттока из него спинномозговой жидкости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5"/>
          <a:stretch/>
        </p:blipFill>
        <p:spPr>
          <a:xfrm>
            <a:off x="4427640" y="268200"/>
            <a:ext cx="353376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1042920" y="3363840"/>
            <a:ext cx="6985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цефал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доразвитие мозга, когда его масса не достигает 1 кг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2987640" y="627120"/>
            <a:ext cx="3672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"/>
          <p:cNvGrpSpPr/>
          <p:nvPr/>
        </p:nvGrpSpPr>
        <p:grpSpPr>
          <a:xfrm>
            <a:off x="880920" y="192240"/>
            <a:ext cx="2608200" cy="1439280"/>
            <a:chOff x="880920" y="192240"/>
            <a:chExt cx="2608200" cy="1439280"/>
          </a:xfrm>
        </p:grpSpPr>
        <p:sp>
          <p:nvSpPr>
            <p:cNvPr id="434" name="Line 3"/>
            <p:cNvSpPr/>
            <p:nvPr/>
          </p:nvSpPr>
          <p:spPr>
            <a:xfrm flipH="1" flipV="1">
              <a:off x="2267280" y="672480"/>
              <a:ext cx="1221840" cy="95904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880920" y="192240"/>
              <a:ext cx="2244960" cy="108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Инфекционные заболевания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5219640" y="239760"/>
            <a:ext cx="2373480" cy="1535760"/>
            <a:chOff x="5219640" y="239760"/>
            <a:chExt cx="2373480" cy="1535760"/>
          </a:xfrm>
        </p:grpSpPr>
        <p:sp>
          <p:nvSpPr>
            <p:cNvPr id="437" name="Line 6"/>
            <p:cNvSpPr/>
            <p:nvPr/>
          </p:nvSpPr>
          <p:spPr>
            <a:xfrm flipV="1">
              <a:off x="5610240" y="673560"/>
              <a:ext cx="1074600" cy="11019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8" name="AutoShape 7"/>
            <p:cNvSpPr/>
            <p:nvPr/>
          </p:nvSpPr>
          <p:spPr>
            <a:xfrm>
              <a:off x="5219640" y="239760"/>
              <a:ext cx="2373480" cy="10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Сотрясения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головного мозг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9" name="Group 8"/>
          <p:cNvGrpSpPr/>
          <p:nvPr/>
        </p:nvGrpSpPr>
        <p:grpSpPr>
          <a:xfrm>
            <a:off x="1006560" y="3076560"/>
            <a:ext cx="2407680" cy="1724040"/>
            <a:chOff x="1006560" y="3076560"/>
            <a:chExt cx="2407680" cy="1724040"/>
          </a:xfrm>
        </p:grpSpPr>
        <p:sp>
          <p:nvSpPr>
            <p:cNvPr id="440" name="Line 9"/>
            <p:cNvSpPr/>
            <p:nvPr/>
          </p:nvSpPr>
          <p:spPr>
            <a:xfrm flipH="1">
              <a:off x="2303280" y="3076560"/>
              <a:ext cx="1110960" cy="100980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1" name="AutoShape 10"/>
            <p:cNvSpPr/>
            <p:nvPr/>
          </p:nvSpPr>
          <p:spPr>
            <a:xfrm>
              <a:off x="1006560" y="3746520"/>
              <a:ext cx="2333520" cy="105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едные привычки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42" name="Group 11"/>
          <p:cNvGrpSpPr/>
          <p:nvPr/>
        </p:nvGrpSpPr>
        <p:grpSpPr>
          <a:xfrm>
            <a:off x="5468760" y="3032280"/>
            <a:ext cx="2772000" cy="1676160"/>
            <a:chOff x="5468760" y="3032280"/>
            <a:chExt cx="2772000" cy="1676160"/>
          </a:xfrm>
        </p:grpSpPr>
        <p:sp>
          <p:nvSpPr>
            <p:cNvPr id="443" name="Line 12"/>
            <p:cNvSpPr/>
            <p:nvPr/>
          </p:nvSpPr>
          <p:spPr>
            <a:xfrm>
              <a:off x="5508720" y="3032280"/>
              <a:ext cx="1251000" cy="10825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4" name="AutoShape 13"/>
            <p:cNvSpPr/>
            <p:nvPr/>
          </p:nvSpPr>
          <p:spPr>
            <a:xfrm>
              <a:off x="5468760" y="3774960"/>
              <a:ext cx="2772000" cy="93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Разрывы периферических нервов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2535120" y="1585800"/>
            <a:ext cx="3989520" cy="170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обретённые заболевания центрально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"/>
          <p:cNvSpPr/>
          <p:nvPr/>
        </p:nvSpPr>
        <p:spPr>
          <a:xfrm>
            <a:off x="531720" y="1380960"/>
            <a:ext cx="457200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 инфекционным</a:t>
            </a:r>
            <a:endParaRPr b="0" lang="en-US" sz="2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болезням относятся менингит, энцефалит, корь, ветрянка, свинка, герпес, краснуха, бешенство, полиомиелит и многие другие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5602320" y="0"/>
            <a:ext cx="3541680" cy="629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01:35Z</dcterms:created>
  <dc:creator>Пользователь</dc:creator>
  <dc:description/>
  <dc:language>en-US</dc:language>
  <cp:lastModifiedBy>Роман</cp:lastModifiedBy>
  <dcterms:modified xsi:type="dcterms:W3CDTF">2023-10-31T08:30:37Z</dcterms:modified>
  <cp:revision>1250</cp:revision>
  <dc:subject/>
  <dc:title>Презентация PowerPoint</dc:title>
</cp:coreProperties>
</file>